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836-E1AB-49F0-8070-5EDAE12F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38D-602D-4513-996A-291F13E3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07C-1817-468B-8B5F-22E790B2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E66-5003-46CF-A3F6-2997289D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741-6B6B-43F9-8BC2-32635868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23C-443D-414A-BE1F-2CED6390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67F-4B77-4801-809B-10CE0E69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A2C-4B6C-4DE8-A9AE-F60F52D4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B9B-C553-44D1-8AA9-07C74533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A84-17D1-4A7D-B1AA-EC86C1B9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38E-FBBD-43F1-81EF-B7D0AA15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DE2-3D3B-47DA-ABF1-250C7A81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89D4-B2F8-4627-97B3-9B7E9B04D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p Makeup 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14800" y="838080"/>
            <a:ext cx="3962520" cy="32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1143000"/>
            <a:ext cx="388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are (is) _____ hills on this m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the contour lines do as they cross over a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tour interv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419720"/>
            <a:ext cx="82296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What is the elevation at point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Point A is between ____and ____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What is the elevation located at point B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228600"/>
            <a:ext cx="3429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276720" y="2209680"/>
          <a:ext cx="5867280" cy="3988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209680"/>
                    <a:ext cx="586728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04920" y="914400"/>
            <a:ext cx="6553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which location is the topography the steepest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location best represents a river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1522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666880"/>
            <a:ext cx="3581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location best represents a hi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location C, which way is the creek flowing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outh to north, east to west?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)    How many hil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on this map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86280" y="0"/>
            <a:ext cx="60577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371600"/>
            <a:ext cx="3276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hills are located on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depres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the contour lines do as they cross over a ri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elevation on the small hi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ontour interv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7920" y="0"/>
            <a:ext cx="7315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hills are located on this m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epres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tour interval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the contour lines do as they cross over a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way does the river f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5143680" cy="4438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16200000">
            <a:off x="-952200" y="3161880"/>
            <a:ext cx="3429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1676520"/>
            <a:ext cx="693432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est hazard to the great valley province is 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 occur at the San Andreas plate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. Shasta and Mt. Lassen form above a ______ plate bound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mary purpose of the California Aqueduct System is to move water to ______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  One source of renewable energy found in California that forms as a result of volcanoes is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3505320"/>
            <a:ext cx="190512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the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m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6094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Bell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1000" autoRev="1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8:22:25Z</dcterms:created>
  <dc:creator>jfuller</dc:creator>
  <dc:description/>
  <dc:language>en-US</dc:language>
  <cp:lastModifiedBy>jfuller</cp:lastModifiedBy>
  <dcterms:modified xsi:type="dcterms:W3CDTF">2011-12-05T21:10:49Z</dcterms:modified>
  <cp:revision>3</cp:revision>
  <dc:subject/>
  <dc:title>Map Makeup Bellwork</dc:title>
</cp:coreProperties>
</file>